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3CD-C9DE-4056-9C79-6CB299BE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8B0-A831-4DCB-9D0B-CCA50395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308-50EE-4DF6-8B23-271B1B59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30B-EB40-4502-A428-90F0D3CB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B07-FFA5-48E3-8081-358BD7E1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ABC-B089-42A0-89B1-81EA03DE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3AA-7E53-4BF1-9A14-73A8CE69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ED9-F3EB-4EFF-B5BC-50ACF199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EE7-1635-4B25-85B5-8529A515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D02-03B6-408A-A3FB-1FC4A83A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BB3-8344-4F39-B423-C9F0A52F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279-B7D3-4ED8-8AB4-D4983855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AE94-C2FF-445C-B139-01B9FBFA9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5880" y="138960"/>
            <a:ext cx="10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0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181440"/>
            <a:ext cx="8077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requency and Hist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8000" y="137160"/>
            <a:ext cx="10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0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659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requency and Histogra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8080" y="1828800"/>
            <a:ext cx="771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of a data value is the number of times it occurs.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frequency ta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shows the frequency of each data value. If the data is divided into intervals, the table shows the frequency of each interv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Making a Frequency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2240" y="1523880"/>
            <a:ext cx="832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numbers of students enrolled in Western Civilization classes at a university are given below. Use the data to make a frequency table with interv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0560" y="3276720"/>
            <a:ext cx="78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2, 22, 18, 9, 25, 31, 28, 19, 22, 27, 32,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978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Identify the least and greates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46483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least value is 9. The greatest value is 3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065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181480" y="3505320"/>
          <a:ext cx="3352680" cy="25225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Enro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– 2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– 3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– 4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5181480" y="2971800"/>
            <a:ext cx="3367080" cy="533520"/>
          </a:xfrm>
          <a:prstGeom prst="rect">
            <a:avLst/>
          </a:prstGeom>
          <a:solidFill>
            <a:srgbClr val="33cc33">
              <a:alpha val="4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rollment in We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vilization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3505320"/>
            <a:ext cx="335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676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ivide the data into equal interv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4880" y="2209680"/>
            <a:ext cx="39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or this data set, use an interval of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4880" y="3460680"/>
            <a:ext cx="4130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ist the intervals in the first column of the table. Count the number of data values in each interval and list the count in the last column. Give the table a tit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1600200"/>
            <a:ext cx="80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number of days of Maria’s last 15 vacations are listed below. Use the data to make a frequency table with interv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56800" y="285120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, 8, 6, 7, 5, 4, 10, 6, 7, 14, 12, 8, 10, 15,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9240" y="3505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Identify the least and greates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7680" y="417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least value is 4. The greatest value is 1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27160" y="494496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ivide the data into equal interv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23920" y="55627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or this data set use an interval of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15238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ist the intervals in the first column of the table. Count the number of data values in each interval and list the count in the last column. Give the table a tit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681280" y="3886200"/>
          <a:ext cx="3352680" cy="2282760"/>
        </p:xfrm>
        <a:graphic>
          <a:graphicData uri="http://schemas.openxmlformats.org/drawingml/2006/table">
            <a:tbl>
              <a:tblPr/>
              <a:tblGrid>
                <a:gridCol w="1676160"/>
                <a:gridCol w="16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– 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– 1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666880" y="3352680"/>
            <a:ext cx="3367080" cy="533520"/>
          </a:xfrm>
          <a:prstGeom prst="rect">
            <a:avLst/>
          </a:prstGeom>
          <a:solidFill>
            <a:srgbClr val="33cc33">
              <a:alpha val="4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mber of  Vacation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81280" y="3886200"/>
            <a:ext cx="33526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14400" y="1905120"/>
            <a:ext cx="702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histogr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is a bar graph used to display the frequency of data divided into equal intervals. The bars must be of equal width and should touch, but not over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Making a Hist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61604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Use the frequency table in Example 2 to make a hist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2590920"/>
            <a:ext cx="48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Use the scale and interval from the frequency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7960" y="380988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raw a bar for the number of classes in each interv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562720" y="3200400"/>
          <a:ext cx="3352680" cy="25225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Enro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– 2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– 3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– 4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548320" y="2666880"/>
            <a:ext cx="3367080" cy="533520"/>
          </a:xfrm>
          <a:prstGeom prst="rect">
            <a:avLst/>
          </a:prstGeom>
          <a:solidFill>
            <a:srgbClr val="33cc33">
              <a:alpha val="4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rollment in We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vilization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3200400"/>
            <a:ext cx="33526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2240" y="5076720"/>
            <a:ext cx="413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ll bars should be the same width. The bars should touch, but not over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2240" y="231768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Title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nd label the horizontal and vertical s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248440" y="2247840"/>
            <a:ext cx="31334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45080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Make a histogram for the number of days of Maria’s last 15 va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51880" y="221292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, 8, 6, 7, 5, 4, 10, 6, 7, 14, 12, 8, 10, 15,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300400" y="4118040"/>
          <a:ext cx="3352680" cy="2282760"/>
        </p:xfrm>
        <a:graphic>
          <a:graphicData uri="http://schemas.openxmlformats.org/drawingml/2006/table">
            <a:tbl>
              <a:tblPr/>
              <a:tblGrid>
                <a:gridCol w="1676160"/>
                <a:gridCol w="16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– 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– 1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2286000" y="3584520"/>
            <a:ext cx="3367080" cy="533520"/>
          </a:xfrm>
          <a:prstGeom prst="rect">
            <a:avLst/>
          </a:prstGeom>
          <a:solidFill>
            <a:srgbClr val="33cc33">
              <a:alpha val="4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mber of  Vacation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4118040"/>
            <a:ext cx="33526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68596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Use the scale and interval from the frequency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98560" y="182880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raw a bar for the number of scores in each interv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98560" y="2743200"/>
            <a:ext cx="413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ll bars should be the same width. The bars should touch, but not over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441972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Title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nd label the horizontal and vertical s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876920" y="2743200"/>
            <a:ext cx="3200400" cy="3580920"/>
            <a:chOff x="4876920" y="2743200"/>
            <a:chExt cx="3200400" cy="3580920"/>
          </a:xfrm>
        </p:grpSpPr>
        <p:sp>
          <p:nvSpPr>
            <p:cNvPr id="184" name=""/>
            <p:cNvSpPr/>
            <p:nvPr/>
          </p:nvSpPr>
          <p:spPr>
            <a:xfrm>
              <a:off x="4876920" y="2895480"/>
              <a:ext cx="4572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5477040" y="2962080"/>
              <a:ext cx="2524320" cy="33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096240" y="2743200"/>
              <a:ext cx="19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Va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040" y="2852640"/>
              <a:ext cx="4572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990720"/>
            <a:ext cx="8458200" cy="5486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ntify the least and greatest value in each dat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4, 62, 45, 35, 75, 23, 35, 65,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6, 3.4, 2.6, 4.8, 1.3, 3.5, 4.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rder the data from least to grea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4, 5.1, 3.7, 2.1, 3.6, 4.0, 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, 5, 6, 8, 7, 4, 6, 5, 9, 3, 6, 6, 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74880" y="248616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23, 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47120" y="317196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1.3, 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79800" y="4952880"/>
            <a:ext cx="48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2.1, 2.4, 2.9, 3.6, 3.7, 4.0, 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0880" y="5924520"/>
            <a:ext cx="50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3, 4, 5, 5, 5, 6, 6, 6, 6, 7, 8, 9,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1600200"/>
            <a:ext cx="778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Cumulative 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shows the frequency of all data values less than or equal to a given value. You could just count the number of values, but if the data set has many values, you might lose track. Recording the data in a cumulative frequency table can help you keep track of the data values as you 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Making a Cumulative Frequency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6280" y="1616040"/>
            <a:ext cx="80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weights (in ounces) of packages of pork chops are give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6280" y="253044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9, 20, 26, 18, 25, 29, 18, 18, 22, 24, 27, 26, 24, 21, 29,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6280" y="344484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. Use the data to make a cumulative frequency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359240"/>
            <a:ext cx="83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oose intervals for the first column of the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534996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ecord the frequency values in each interval for the seco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4038480" y="3429000"/>
          <a:ext cx="4724280" cy="2971800"/>
        </p:xfrm>
        <a:graphic>
          <a:graphicData uri="http://schemas.openxmlformats.org/drawingml/2006/table">
            <a:tbl>
              <a:tblPr/>
              <a:tblGrid>
                <a:gridCol w="1428840"/>
                <a:gridCol w="1546200"/>
                <a:gridCol w="17492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(o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ul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-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-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-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9960" y="155592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dd the frequency of each interval to the frequencies of all the intervals before it. Put that number in the third column of the table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7120" y="441972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5029200"/>
            <a:ext cx="1143000" cy="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5562720"/>
            <a:ext cx="1143000" cy="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77120" y="6095880"/>
            <a:ext cx="1143000" cy="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476760" y="4524480"/>
            <a:ext cx="1143000" cy="38088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476760" y="5105520"/>
            <a:ext cx="1143000" cy="38088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476760" y="5638680"/>
            <a:ext cx="1143000" cy="38124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2987640"/>
            <a:ext cx="26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itle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22640" y="2971800"/>
            <a:ext cx="4740480" cy="457200"/>
          </a:xfrm>
          <a:prstGeom prst="rect">
            <a:avLst/>
          </a:prstGeom>
          <a:solidFill>
            <a:srgbClr val="33cc33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k C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3429000"/>
            <a:ext cx="472464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7000"/>
                            </p:stCondLst>
                            <p:childTnLst>
                              <p:par>
                                <p:cTn id="4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9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3978360" y="3352680"/>
          <a:ext cx="4724280" cy="2971800"/>
        </p:xfrm>
        <a:graphic>
          <a:graphicData uri="http://schemas.openxmlformats.org/drawingml/2006/table">
            <a:tbl>
              <a:tblPr/>
              <a:tblGrid>
                <a:gridCol w="1428840"/>
                <a:gridCol w="1546200"/>
                <a:gridCol w="17492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(o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ul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-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-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-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6416640" y="434340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16640" y="4952880"/>
            <a:ext cx="1143000" cy="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16640" y="5486400"/>
            <a:ext cx="1143000" cy="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16640" y="6019920"/>
            <a:ext cx="1143000" cy="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416280" y="4448160"/>
            <a:ext cx="1143000" cy="38088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416280" y="5029200"/>
            <a:ext cx="1143000" cy="38088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416280" y="5562720"/>
            <a:ext cx="1143000" cy="38088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2895480"/>
            <a:ext cx="4740120" cy="457200"/>
          </a:xfrm>
          <a:prstGeom prst="rect">
            <a:avLst/>
          </a:prstGeom>
          <a:solidFill>
            <a:srgbClr val="33cc33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k C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78360" y="3352680"/>
            <a:ext cx="472428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6765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 How many packages weigh less than 24 ou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040" y="2286000"/>
            <a:ext cx="3521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ll packages less than 24 oz are displayed in the first two rows of the table, so look at the cumulative frequency shown in the second 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5349960"/>
            <a:ext cx="36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8 packages with weights und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4 o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8120" y="152388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number of vowels in each sentence of a short essay are listed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4880" y="25146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3, 36, 39, 37, 34, 35, 43, 35, 28, 32, 36, 35, 29, 40, 33, 41, 3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2240" y="342900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. Use the data to make a cumulative frequency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4359240"/>
            <a:ext cx="83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oose intervals for the first column of the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534996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ecord the frequency values in each interval for the seco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4054320" y="3276720"/>
          <a:ext cx="4724280" cy="2971800"/>
        </p:xfrm>
        <a:graphic>
          <a:graphicData uri="http://schemas.openxmlformats.org/drawingml/2006/table">
            <a:tbl>
              <a:tblPr/>
              <a:tblGrid>
                <a:gridCol w="1428840"/>
                <a:gridCol w="1546200"/>
                <a:gridCol w="17492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ul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-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-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492960" y="426708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2960" y="4876920"/>
            <a:ext cx="1143000" cy="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92960" y="5410080"/>
            <a:ext cx="1143000" cy="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92960" y="5943600"/>
            <a:ext cx="1143000" cy="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492600" y="4371840"/>
            <a:ext cx="1143000" cy="38124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492600" y="4952880"/>
            <a:ext cx="1143000" cy="38124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492600" y="5486400"/>
            <a:ext cx="1143000" cy="38088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52880" y="2819520"/>
            <a:ext cx="4740120" cy="457200"/>
          </a:xfrm>
          <a:prstGeom prst="rect">
            <a:avLst/>
          </a:prstGeom>
          <a:solidFill>
            <a:srgbClr val="33cc33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wels in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54320" y="3276720"/>
            <a:ext cx="472464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9960" y="155592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dd the frequency of each interval to the frequencies of all the intervals before it. Put that number in the third column of the table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2987640"/>
            <a:ext cx="26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ep 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itle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60020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 How many sentences contain 35 vowels or fe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130640" y="3276720"/>
          <a:ext cx="4724280" cy="2971800"/>
        </p:xfrm>
        <a:graphic>
          <a:graphicData uri="http://schemas.openxmlformats.org/drawingml/2006/table">
            <a:tbl>
              <a:tblPr/>
              <a:tblGrid>
                <a:gridCol w="1428840"/>
                <a:gridCol w="1546200"/>
                <a:gridCol w="17492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ul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-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-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6568920" y="426708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68920" y="4876920"/>
            <a:ext cx="1143000" cy="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68920" y="5410080"/>
            <a:ext cx="1143000" cy="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68920" y="5943600"/>
            <a:ext cx="1143000" cy="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568560" y="4371840"/>
            <a:ext cx="1143000" cy="38124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568560" y="4952880"/>
            <a:ext cx="1143000" cy="38124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568560" y="5486400"/>
            <a:ext cx="1143000" cy="38088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2819520"/>
            <a:ext cx="4740120" cy="457200"/>
          </a:xfrm>
          <a:prstGeom prst="rect">
            <a:avLst/>
          </a:prstGeom>
          <a:solidFill>
            <a:srgbClr val="33cc33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wels in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30640" y="3276720"/>
            <a:ext cx="472428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2241720"/>
            <a:ext cx="352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ll sentences with less than 35 vowels. are displayed in the first two rows of the table, so look at the cumulative frequency shown in the second 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360" y="5213520"/>
            <a:ext cx="38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re are 9 sentences with fewer than 35 vow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The number of miles on the new cars in a car lot are given below. Use the data to make a stem-and-leaf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274320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5, 21, 15, 51, 39, 41, 46, 22, 28, 16, 12, 40, 34, 56, 25,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36291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15238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numbers of pounds o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aundry in the washers at a laundromat are given below. Use the data to make a cumulative frequency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22160" y="277488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, 12, 4, 8, 5, 8, 11, 3, 6, 9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676520" y="3429000"/>
            <a:ext cx="57816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46280" y="163188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Use the frequency table fro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roblem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to make a hist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7716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905120"/>
            <a:ext cx="7925040" cy="2057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 stem-and-leaf pl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 frequency tables and hist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133720"/>
            <a:ext cx="7696440" cy="30477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m-and-leaf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quency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mulative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137160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tem-and-lea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plot arranges data by dividing each data value into two parts. This allows you to see each data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176720" y="4010040"/>
            <a:ext cx="928800" cy="637920"/>
            <a:chOff x="4176720" y="4010040"/>
            <a:chExt cx="928800" cy="6379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4219560" y="4029120"/>
              <a:ext cx="85752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643640" y="40384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6720" y="401004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91120" y="45720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734080" y="3054240"/>
            <a:ext cx="280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The last digit of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value is called a lea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054240"/>
            <a:ext cx="33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  <a:ea typeface="Arial"/>
              </a:rPr>
              <a:t>The digits other than the last digit of each value are called a 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3886200"/>
            <a:ext cx="1219320" cy="3049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181120" y="3809880"/>
            <a:ext cx="76212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58280" y="464832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  <a:ea typeface="Arial"/>
              </a:rPr>
              <a:t>Key: 2|3 means 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562284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Verdana"/>
                <a:ea typeface="Arial"/>
              </a:rPr>
              <a:t>The key tells you how to read each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952880" y="5257440"/>
            <a:ext cx="609840" cy="6094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Making a Stem-and-Leaf P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50840" y="160020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numbers of defective widgets in batches of 1000 are given below. Use the data to make a stem-and-leaf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6480" y="281952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4, 12, 8, 9, 13, 20, 15, 9, 21, 8, 13,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96920" y="335268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Number of De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Widgets per B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171440" y="4114800"/>
            <a:ext cx="2590920" cy="501480"/>
            <a:chOff x="1171440" y="4114800"/>
            <a:chExt cx="2590920" cy="501480"/>
          </a:xfrm>
        </p:grpSpPr>
        <p:sp>
          <p:nvSpPr>
            <p:cNvPr id="80" name=""/>
            <p:cNvSpPr/>
            <p:nvPr/>
          </p:nvSpPr>
          <p:spPr>
            <a:xfrm>
              <a:off x="1171440" y="4616280"/>
              <a:ext cx="259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27400" y="4114800"/>
              <a:ext cx="21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tem   Lea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989360" y="4572000"/>
            <a:ext cx="2178720" cy="1266120"/>
            <a:chOff x="1989360" y="4572000"/>
            <a:chExt cx="2178720" cy="1266120"/>
          </a:xfrm>
        </p:grpSpPr>
        <p:sp>
          <p:nvSpPr>
            <p:cNvPr id="83" name=""/>
            <p:cNvSpPr/>
            <p:nvPr/>
          </p:nvSpPr>
          <p:spPr>
            <a:xfrm>
              <a:off x="2005920" y="4572000"/>
              <a:ext cx="160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8 8 9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57760" y="4997520"/>
              <a:ext cx="211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2 3 3 4 5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9360" y="5378400"/>
              <a:ext cx="117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0 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362320" y="4267080"/>
            <a:ext cx="28440" cy="14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37040" y="3392640"/>
            <a:ext cx="41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tens digits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re the 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8840" y="3809880"/>
            <a:ext cx="42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nes digits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re the leaves. List the leaves from least to greatest within each 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41000" y="541008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itle the graph and add a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65040" y="589932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Key: 1|9 means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Making a Stem-and-Leaf P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98560" y="15238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season’s scores for the football teams going to the state championship are given below. Use the data to make a back-to-back stem-and-leaf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386360" y="3079800"/>
            <a:ext cx="6360480" cy="884880"/>
            <a:chOff x="1386360" y="3079800"/>
            <a:chExt cx="6360480" cy="884880"/>
          </a:xfrm>
        </p:grpSpPr>
        <p:sp>
          <p:nvSpPr>
            <p:cNvPr id="94" name=""/>
            <p:cNvSpPr/>
            <p:nvPr/>
          </p:nvSpPr>
          <p:spPr>
            <a:xfrm>
              <a:off x="1386360" y="3079800"/>
              <a:ext cx="634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eam A: 65, 42, 56, 49, 58, 42, 61, 55, 45, 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01480" y="3504960"/>
              <a:ext cx="634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eam B: 57, 60, 48, 49, 52, 61, 58, 37, 63, 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50840" y="33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21560" y="1523880"/>
            <a:ext cx="6360120" cy="884880"/>
            <a:chOff x="1321560" y="1523880"/>
            <a:chExt cx="6360120" cy="884880"/>
          </a:xfrm>
        </p:grpSpPr>
        <p:sp>
          <p:nvSpPr>
            <p:cNvPr id="99" name=""/>
            <p:cNvSpPr/>
            <p:nvPr/>
          </p:nvSpPr>
          <p:spPr>
            <a:xfrm>
              <a:off x="1321560" y="1523880"/>
              <a:ext cx="634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eam A: 65, 42, 56, 49, 58, 42, 61, 55, 45, 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36320" y="1949040"/>
              <a:ext cx="634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eam B: 57, 60, 48, 49, 52, 61, 58, 37, 63, 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050840" y="33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4320" y="2438280"/>
            <a:ext cx="343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ootbal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ampionship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090440" y="3429000"/>
            <a:ext cx="3200400" cy="2288520"/>
            <a:chOff x="1090440" y="3429000"/>
            <a:chExt cx="3200400" cy="2288520"/>
          </a:xfrm>
        </p:grpSpPr>
        <p:sp>
          <p:nvSpPr>
            <p:cNvPr id="104" name=""/>
            <p:cNvSpPr/>
            <p:nvPr/>
          </p:nvSpPr>
          <p:spPr>
            <a:xfrm>
              <a:off x="1344600" y="3429000"/>
              <a:ext cx="28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eam A       Tea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83800" y="38098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57200" y="4159080"/>
              <a:ext cx="252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9 5 2 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8 8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34400" y="4540320"/>
              <a:ext cx="22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8 6 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2 7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24480" y="4876920"/>
              <a:ext cx="209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5 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0 1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74800" y="525780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90440" y="3857760"/>
              <a:ext cx="320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2760" y="3505320"/>
              <a:ext cx="0" cy="21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09960" y="3505320"/>
              <a:ext cx="0" cy="21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937040" y="3048120"/>
            <a:ext cx="41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tens digits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re the 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8840" y="3465360"/>
            <a:ext cx="42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nes digits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re the le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41000" y="54864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itle the graph and add a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28680" y="5715000"/>
            <a:ext cx="29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Key: |4|8 means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       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2|4| means 4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282920"/>
            <a:ext cx="42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ut Team A’s scores on the left side and Team B’s scores on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371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temperature in degrees Celsius for two weeks are given below. Use the data to make a stem-and-leaf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0560" y="2666880"/>
            <a:ext cx="69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7, 32, 34, 31, 26, 27, 23, 19, 22, 29, 30, 36, 35,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0320" y="60958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  <a:ea typeface="Arial"/>
              </a:rPr>
              <a:t>Key: 1|9 means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524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emperature  in Degrees Cels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37040" y="3962520"/>
            <a:ext cx="41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tens digits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re the 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8840" y="4543560"/>
            <a:ext cx="42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nes digits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re the leaves. List the leaves from least to greatest within each 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41000" y="609588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itle the graph and add a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38080" y="4114800"/>
            <a:ext cx="3380400" cy="2091600"/>
            <a:chOff x="838080" y="4114800"/>
            <a:chExt cx="3380400" cy="2091600"/>
          </a:xfrm>
        </p:grpSpPr>
        <p:grpSp>
          <p:nvGrpSpPr>
            <p:cNvPr id="127" name=""/>
            <p:cNvGrpSpPr/>
            <p:nvPr/>
          </p:nvGrpSpPr>
          <p:grpSpPr>
            <a:xfrm>
              <a:off x="838080" y="4114800"/>
              <a:ext cx="2590920" cy="501480"/>
              <a:chOff x="838080" y="4114800"/>
              <a:chExt cx="2590920" cy="501480"/>
            </a:xfrm>
          </p:grpSpPr>
          <p:sp>
            <p:nvSpPr>
              <p:cNvPr id="128" name=""/>
              <p:cNvSpPr/>
              <p:nvPr/>
            </p:nvSpPr>
            <p:spPr>
              <a:xfrm>
                <a:off x="838080" y="4616280"/>
                <a:ext cx="259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94040" y="4114800"/>
                <a:ext cx="212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Stem   Lea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599480" y="4572000"/>
              <a:ext cx="84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02720" y="4997520"/>
              <a:ext cx="84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28720" y="5378400"/>
              <a:ext cx="193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2 3 6 7 9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75880" y="5746680"/>
              <a:ext cx="24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0 1 1 2 4 5 6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28960" y="4114800"/>
              <a:ext cx="0" cy="205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5-12T14:27:37Z</dcterms:modified>
  <cp:revision>321</cp:revision>
  <dc:subject/>
  <dc:title>Slide 1</dc:title>
</cp:coreProperties>
</file>